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79C-E0D9-4270-808D-EDF5AE3C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12B-7334-4D7B-B278-C18DCF9A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08C2E-107B-4AF4-8143-CD355186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D126F-3A89-4E40-B664-1B4305B4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85EF0-D971-48C3-96BD-17CC9DF3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A6F0C-9E28-468E-8437-64B9EC7D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F174C-ECA5-47E5-8BEF-3198D8A9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4297B-2487-4B79-BEC6-3D573AC5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C0AAE-D0DA-4BD2-8930-E10349B6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A2577-5F05-4E4D-9079-152A1618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19BC9-B9A6-44B5-99EF-073B5661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BEDB4-734A-49AA-A910-F22E04CD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FB9-F274-4ACF-91E9-1D51DBA8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176D5-B24A-42A7-99E2-E287E9FC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D9F93-338B-47A5-9BCC-CC5A958E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C11CC8-5BDA-4C26-BC62-6F617792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36C8A3-0EDB-4E1E-ACC4-2A4F8F8A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6BD91-20B7-4EF8-ACA9-2EDE71FC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967C1-50C0-44EC-83F1-32AC2362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F1999-A7BD-4C5A-9936-1E37F55B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4A810-784C-4125-BAE1-34AFBA3F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2AF25-B6DA-499D-AB93-A61DFA3C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609D1-CCD3-4579-AA38-C0131A87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F9E-2D10-48D6-AD8B-404C24EF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BFD7E-C675-4AA6-AEAA-C88278D5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E3F3B-C27A-4C21-99CF-6DEC808A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522AF-83AA-41DC-A50C-66D899AD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E3659-8A11-4EB6-884E-F2445680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E5B2E-4D4E-4A95-B955-B712B7CB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D67E3-8AE7-40AB-B576-A3ABB4DB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102C7-C4DC-4FD8-89C1-8999902F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AD2D5-89A8-4283-B797-5259AB4C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1DF60-9F4C-4A58-8300-A3D837DB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6AE2B-65DD-45D5-B831-4232B6F1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9802-AB61-438D-81D3-0BC07947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B97B3-D88A-4425-98FC-A3549B64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529DA-C6F3-44B3-A91E-97BFD08C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989E3-CA01-44B4-B555-F03E6738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9F73E-23A1-4C15-8EC1-F22F3F1F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F0A9E-2B71-47DE-9C26-954647F4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F9836-8C59-4D7D-BE5A-FC4458F9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CFB72-2776-4E46-95E8-167B1AF6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A16BB-E009-4235-ABB3-A5B04BA6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0E46C-0EE7-40DB-843B-0F986612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0EBB0-854E-405D-B86F-DFE5D893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32D8-CAF5-4B36-9886-B6D2D1CC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4BF57-8B11-4752-953E-CD6890BE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A2CB3-2C19-4520-969B-C3920403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74737-60F4-49A9-9E12-BEC36559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56F352-4C9B-4CEC-B326-0373343D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705E2-AFC4-4747-A8A5-FD67C245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0699-A9E2-491E-97A2-6220ACA1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52F4-9617-4C23-883F-B4C3A157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CB2E-D7B2-40C1-BA0E-B546C8C4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2F63-9E54-4160-9E9E-E5BDA2F1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29A0-BBD5-4C75-BDDD-56624D23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0FE-3B20-4682-A4B8-B7B40726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48CB-9657-49E2-BDAF-0B652166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D7E4-2EC7-4DAD-BF74-CD34AE17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42F1-3968-4461-A73D-44370724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A532-D0DD-4B76-9348-0AC397F9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0F8F-E761-431D-B1EB-1DE52F7B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2CED-6503-4ACA-968C-7E4C4FAB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07662-36EB-4984-9194-9412E93D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A9DC5-8E4C-4132-9062-C5C1BFC7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EC41-8D05-4337-AD99-C07B4C28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CBAF1-D8EE-4929-A638-B1C2B924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259-7C21-466D-BE90-0424A874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FD82D-AFEC-4484-BEF6-B93BBCA9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0C098-17F1-4460-89E2-83517670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EA0F-51DC-4B70-A57C-5726332F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E7629-73BC-4A6A-9427-5D2F7D15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A793A-4438-49A2-B659-0A5B225C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4266-9EC3-470C-B04C-21E38CD6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A52EC-F88A-45FB-9B73-2ED6FF47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76872-026A-4CF3-ACAF-F03DE274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1DE84-0E57-41FF-8743-B6B16D14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7575B-A380-4E36-ACE1-BDA21D50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7E6-3F59-4860-94FB-F47B1E7A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A1FBB-26EE-41EA-970F-62CDC810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DC784-3864-4FA7-A8EF-88358BE8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22511-3D2C-4ED1-9F8C-4368C2AD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A3947-4E7E-46CE-AAAE-B9788B87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138A1-B39C-4C34-BC5B-5BC75E5B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7E996-21EB-4094-8386-EBDFBEA8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71FD8-45B5-4C0E-8D02-CF188C25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3C8E0-EF82-4072-AE1A-DB530EDD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EFBC0-7C08-45E8-B4EC-A02538B1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A1035-ADA8-46FA-8926-B4150635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DED-2802-45E8-974C-7AEB852E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11F01-C632-4A83-94D8-29BCDBCE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856A5-060C-448A-9FFE-6D311114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2EF88-B086-4761-AA9F-742A580D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87708-C04F-4EBF-A38D-BAE5B78E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9D901-62F5-45DC-89E4-BB25E0D1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980B0-D518-41FC-92A4-B9E9A062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51145-54C7-4B48-923A-1BB574C0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111C4-4CCC-4388-895D-874CDE4E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CE58F-0643-4148-BFC0-C6F25A8F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AA1F0-E4B5-4088-8E22-4782F8BD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014-6431-495A-BA2C-CFE4C2CB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FC604-2E41-4278-A330-4F402CC2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CBF85-B1CF-4C2C-94ED-E8B29E25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046A6-EC3A-4E8D-9678-750A5F1E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E5965-C4C9-4C7E-B83B-AE99086A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657D1-7C67-4764-BDE1-BB5F336C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23F82-A9CA-40D6-84E6-913B1B68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B6C24-3F37-49CA-82AF-DBFB8845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087F4-5186-422A-87D8-E7FEA549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40F39-0D64-486F-9EB6-0116BC71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C7C40-5B47-4AA1-86CB-4B721179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AB6-44D6-4D73-A075-673A4850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CF1F4-36AB-4A5B-AEAC-3DFA18FB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8DBEE-032C-4BE7-9AF8-CA3E6C92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041B2-3B38-4B0A-95E9-D7CAFC3A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5E852-7D11-4245-9645-64E028D6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C31F0-98F2-4953-A9D8-968BAE7D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FD732-1F53-4417-8BDF-3845316F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CEF13-B824-4E32-9285-D89AEE1A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2225D-C7A5-4CF4-9ECA-70409C64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18832-50F8-4E17-888A-0F8CFCB9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6B434-21A5-40E6-A083-3B320170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1F3-7F67-4612-A576-EA914AA3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19535-457C-4437-9FBE-0B67B297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0F40D-2850-40C6-959D-2C96EED3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B87E8-55FD-42D2-9A2D-9DA4703C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25A61-D96C-4D72-8739-31B78ECC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56CDB-BCB4-4FD3-B132-ADDB3188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69482-0E1D-470B-91FC-BC123BEC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08CBD-9FF7-4274-884F-1D5CE0BF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D1BAE-D095-4D0B-A6CB-974C9D09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9E4A9-329D-4393-BB5B-53F07C30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3255E-83E0-4253-B648-92874562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834-D204-46E9-9F88-0A10002C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0BAE1-C8EC-4AA1-82C6-23FAFA37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217C2-12EA-464E-AE9E-B7BC74CD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B8347-3F80-4FF5-9F50-4C544723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DA67A-7302-4477-8777-6211E6B6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1053C-78CF-406C-A8DC-BAFC3528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0D2B1-03C6-4B53-A970-231F18EE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1AF50-95E9-40F2-A266-5ED43FD0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49987-E68C-4202-A9EB-F8D69751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D21F0-7BB6-4FA7-A0DF-C3867374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C9B27-72B7-4414-AEE1-35DC3D86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72D2-22A7-437A-854C-FFE970510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414A-4E6A-4335-9B1D-9BFA4EF07D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2E0A-9AF8-4762-BFDF-E7A7D94110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9C8E-F720-4689-9A2F-B2BCF7CF42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0DBA-F137-441A-A5F6-10EE929C25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7036-43CC-422C-8902-A599AEAC0D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DA01-59EC-44E5-8DD2-D5307DD5B2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7BE2-FC21-4333-8B76-1B24555781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EBD2-828F-4E49-8AB7-9C8A02D0D6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B843-18B6-4014-A825-086A97CDD5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5E28-449D-4C4D-9B2A-4AA5806C75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1B87-1B67-4C3F-9C88-05D3AC4C0D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Infant of a Diabetic Mothe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LGA and SGA bab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LGA.jpg"/>
          <p:cNvPicPr/>
          <p:nvPr/>
        </p:nvPicPr>
        <p:blipFill>
          <a:blip r:embed="rId1"/>
          <a:stretch/>
        </p:blipFill>
        <p:spPr>
          <a:xfrm>
            <a:off x="685800" y="1600200"/>
            <a:ext cx="3084480" cy="4672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http://newborns.stanford.edu/images/sga1.jpg"/>
          <p:cNvPicPr/>
          <p:nvPr/>
        </p:nvPicPr>
        <p:blipFill>
          <a:blip r:embed="rId2"/>
          <a:stretch/>
        </p:blipFill>
        <p:spPr>
          <a:xfrm>
            <a:off x="4114800" y="2438280"/>
            <a:ext cx="45910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glycemia: glucose &lt;40 mg/dl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27% of IDMs have hypoglycemia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occurs in first few hours of lif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econdary to persistent hyperinsulinemia while transplacental glucose supply has stopped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/S: lethargy, hypotonia, tremors, seizures, diaphoresis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calcemia: Ca &lt;7 mg/d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occurs in first 24-72 hours of lif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due to low PTH in infant, which may be related to high maternal Ca during pregnanc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/S: asymptomatic with self resolution or jitteriness, tachypnea, seizures/tetany, lethargy, apnea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magnesemia: Mg &lt;1.5 mg/d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40% of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from increased renal losses in diabetic mom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transient and asymptomat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ay need to treat if also hypocalcem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Respiratory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espiratory Distress Syndrome (RDS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more frequently in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yperinsulinemia causes delayed maturation of surfactant synthesi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Diabetic moms are more likely to go into premature labor and delivery, which puts infants at an even greater risk of having immature lungs at birth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D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Content Placeholder 3" descr="RDS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0844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espirato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5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ransient Tachypnea of the Newborn (TTN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Occurs more frequently in IDMs because of risk factors associated with having diabetes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matur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crosom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th asphyxi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ycythem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likelihood of c-se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Caused by delayed resorption of fetal lung fluid, mild pulmonary immaturity, and mild surfactant deficiency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Usually resolves by 72 hours of life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TT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Content Placeholder 5" descr="TTN.jpg"/>
          <p:cNvPicPr/>
          <p:nvPr/>
        </p:nvPicPr>
        <p:blipFill>
          <a:blip r:embed="rId1"/>
          <a:stretch/>
        </p:blipFill>
        <p:spPr>
          <a:xfrm>
            <a:off x="2438280" y="1828800"/>
            <a:ext cx="4270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ertrophic cardiomyopath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ost infants are asymptomatic, but 5-10% have respiratory distress, other signs of poor cardiac output, or heart failur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resolves by 6 months of ag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caused by hyperinsulinemia, which increases fat and glycogen deposition into myocardial cells, causes thickening of interventricular septum &amp;/or ventricular wall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ypertrophic Cardiomyopath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Content Placeholder 3" descr="HC.gif"/>
          <p:cNvPicPr/>
          <p:nvPr/>
        </p:nvPicPr>
        <p:blipFill>
          <a:blip r:embed="rId1"/>
          <a:stretch/>
        </p:blipFill>
        <p:spPr>
          <a:xfrm>
            <a:off x="2286000" y="1523880"/>
            <a:ext cx="46134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Introductio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Frequency: 3-10% of pregnant women have diabet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88% have gestational diabet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12% have known diabet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5% with Type I diabe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65% with Type II diabe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ardiac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Poor diabetic control in the 1</a:t>
            </a:r>
            <a:r>
              <a:rPr b="0" lang="en-US" sz="2800" spc="-1" strike="noStrike" baseline="30000">
                <a:solidFill>
                  <a:srgbClr val="646b86"/>
                </a:solidFill>
                <a:latin typeface="Georgia"/>
              </a:rPr>
              <a:t>st</a:t>
            </a: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 trimester is associated with an increased risk of congenital malformation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2/3 of congenital anomalies are cardiovascular or CNS related.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Common cardiac anomalies: Transposition of the great arteries, ASD, VSD, aortic coarctat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 Anomal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1" name="Content Placeholder 3" descr="VSD.jpg"/>
          <p:cNvPicPr/>
          <p:nvPr/>
        </p:nvPicPr>
        <p:blipFill>
          <a:blip r:embed="rId1"/>
          <a:stretch/>
        </p:blipFill>
        <p:spPr>
          <a:xfrm>
            <a:off x="457200" y="1752480"/>
            <a:ext cx="4286160" cy="3429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" descr="http://scienceblogs.com/whitecoatunderground/upload/2009/08/transp/transposition.jpg"/>
          <p:cNvPicPr/>
          <p:nvPr/>
        </p:nvPicPr>
        <p:blipFill>
          <a:blip r:embed="rId2"/>
          <a:stretch/>
        </p:blipFill>
        <p:spPr>
          <a:xfrm>
            <a:off x="5257800" y="1523880"/>
            <a:ext cx="3352680" cy="39243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5"/>
          <p:cNvSpPr/>
          <p:nvPr/>
        </p:nvSpPr>
        <p:spPr>
          <a:xfrm>
            <a:off x="5410080" y="57150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sition of the great 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Neur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NS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Anencephaly and spina bifida occur 12-20x more frequently in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Caudal Regression Syndrome: incomplete development of the lumbar and sacral vertebra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ccurs 200x more frequently in IDM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pectrum of structural defects possibl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ssociated with neurologic impairment due to involvement of distal spine (i.e. incontinence, decreased growth and movement of leg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nencephaly and Caudal Regression Syndrome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Content Placeholder 3" descr="Anencephaly.jpg"/>
          <p:cNvPicPr/>
          <p:nvPr/>
        </p:nvPicPr>
        <p:blipFill>
          <a:blip r:embed="rId1"/>
          <a:stretch/>
        </p:blipFill>
        <p:spPr>
          <a:xfrm>
            <a:off x="533520" y="16002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We Care: Caudal Regression Syndrome"/>
          <p:cNvPicPr/>
          <p:nvPr/>
        </p:nvPicPr>
        <p:blipFill>
          <a:blip r:embed="rId2"/>
          <a:stretch/>
        </p:blipFill>
        <p:spPr>
          <a:xfrm>
            <a:off x="4773600" y="1676520"/>
            <a:ext cx="3905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GI and GU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GI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itus inversus, atresias, small left colon syndrome: presents like Hirschsprung disease, but innervation of the bowel is normal, inability to pass meconium resolves spontaneously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GU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enal agenesis and other urinary tract abnormaliti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Small Left Colon Syndrome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2" name="Content Placeholder 3" descr="SLCS.jpg"/>
          <p:cNvPicPr/>
          <p:nvPr/>
        </p:nvPicPr>
        <p:blipFill>
          <a:blip r:embed="rId1"/>
          <a:stretch/>
        </p:blipFill>
        <p:spPr>
          <a:xfrm>
            <a:off x="2286000" y="1752480"/>
            <a:ext cx="44402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Hemat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olycythemia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Intervention required when central hematocrit &gt; 65 with symptoms or &gt;70 when asymptomat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13-33% of IDMs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elated to hypoxia in utero -&gt; stimulates erythropoietin, which increases RBC product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yperviscosity in vasculature can cause sludging, ischemia, and infarction of internal organ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Hemat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erbilirubinem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11-29% of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isk factors include: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matur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th injury resulting in bruising or cephalohematom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ycythemia causing increased hemolysis  and release of bilirub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Birth Inju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Macrosomia puts infant at risk for injuries during delivery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Shoulder dystocia can lead to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avicular and/or humeral fractur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rachial plexus injur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Traumatic delivery or need for vacuum/forceps assistance can lead to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phalohematom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al bruis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al nerve inju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4" descr="facial-bruising1.jpg"/>
          <p:cNvPicPr/>
          <p:nvPr/>
        </p:nvPicPr>
        <p:blipFill>
          <a:blip r:embed="rId1"/>
          <a:stretch/>
        </p:blipFill>
        <p:spPr>
          <a:xfrm>
            <a:off x="2590920" y="3124080"/>
            <a:ext cx="3743280" cy="281016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Birth Injur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1" name="Content Placeholder 3" descr="erbs.jpg"/>
          <p:cNvPicPr/>
          <p:nvPr/>
        </p:nvPicPr>
        <p:blipFill>
          <a:blip r:embed="rId2"/>
          <a:stretch/>
        </p:blipFill>
        <p:spPr>
          <a:xfrm>
            <a:off x="380880" y="1447920"/>
            <a:ext cx="2908440" cy="35337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http://1.bp.blogspot.com/_AJgfsjyCikE/SjMFRLHDGnI/AAAAAAAAAac/VdIw73J4iLc/s200/Cephalohematoma.jpg"/>
          <p:cNvPicPr/>
          <p:nvPr/>
        </p:nvPicPr>
        <p:blipFill>
          <a:blip r:embed="rId3"/>
          <a:stretch/>
        </p:blipFill>
        <p:spPr>
          <a:xfrm>
            <a:off x="6477120" y="1676520"/>
            <a:ext cx="24573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isk of Complication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pends on degree of glucose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ite’s classification system helps predict perinatal morta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risk for complications to the fetus in moms with pre-gestational diabetes than with gestational diabet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i.e. increased risk for congenital anomalies, future obesity, and diabete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risk of complications during pregnancy when diabetic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i.e. preeclampsia 2x more common in diabetic pregnancies vs. normal pregnancie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Work-Up and Management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37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blood sug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SGA or LGA, also check hematocri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urther work-up and management depends on patient’s clinical presentation and physical ex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ypoglycemia – early feeding or IVFs with dextr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ymptomatic electrolyte abnormalities – replete electrolyt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piratory distress – Cardiopulmonary support, CXR/echo to search for cau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yperbilirubinemia – phototherap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lycythemia – IVF hydration or exchange transfus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uro/GI/GU anomalies – imaging studies, specialist consul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rognosi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rbidity and mortality lessen with adequate diabetes control during pregnanc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diabetes is poorly controlled, there is a higher risk of neurodevelopmental defici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isk of CP and epilepsy is increas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isk of childhood obesity, diabetes, and metabolic syndrome is increas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2286000" y="263520"/>
            <a:ext cx="42670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athophysiology of Fetal Effect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6760"/>
            <a:ext cx="8537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ternal hyperglycemia acts like a teratogen -&gt; spontaneous abortions and malform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5" descr="http://www.lucinafoundation.org/assets/spina-bifida.jpg"/>
          <p:cNvPicPr/>
          <p:nvPr/>
        </p:nvPicPr>
        <p:blipFill>
          <a:blip r:embed="rId1"/>
          <a:stretch/>
        </p:blipFill>
        <p:spPr>
          <a:xfrm>
            <a:off x="685800" y="2743200"/>
            <a:ext cx="3621240" cy="3352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http://www.nature.com/jp/journal/v23/n8/images/7210987f2.jpg"/>
          <p:cNvPicPr/>
          <p:nvPr/>
        </p:nvPicPr>
        <p:blipFill>
          <a:blip r:embed="rId2"/>
          <a:stretch/>
        </p:blipFill>
        <p:spPr>
          <a:xfrm>
            <a:off x="4724280" y="2819520"/>
            <a:ext cx="3544920" cy="3282840"/>
          </a:xfrm>
          <a:prstGeom prst="rect">
            <a:avLst/>
          </a:prstGeom>
          <a:ln w="0">
            <a:noFill/>
          </a:ln>
        </p:spPr>
      </p:pic>
      <p:sp>
        <p:nvSpPr>
          <p:cNvPr id="618" name="TextBox 6"/>
          <p:cNvSpPr/>
          <p:nvPr/>
        </p:nvSpPr>
        <p:spPr>
          <a:xfrm>
            <a:off x="5105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s Inver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athophysiology of Fetal Effect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6760"/>
            <a:ext cx="8613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mittent maternal hyperglycemia causes fetal hyperglycemia -&gt; premature maturation of fetal pancreatic islet cells -&gt; hyperinsulinemia in the fet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d insulin -&gt; macrosomia -&gt; increased metabolic rate -&gt; increased O2 consumption -&gt; relative hypoxia in the fetus -&gt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Stimulates erythropoietin -&gt; polycythemi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May be contributing factor to 20-30% stillbirth rate in poorly controlled diabetic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omplications At Delive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4560" y="17524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remature delive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erinatal asphyx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Birth inju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6349"/>
                </a:solidFill>
                <a:latin typeface="Georgia"/>
              </a:rPr>
              <a:t>Neonatal Effects</a:t>
            </a:r>
            <a:br>
              <a:rPr sz="2500"/>
            </a:br>
            <a:br>
              <a:rPr sz="3800"/>
            </a:br>
            <a:r>
              <a:rPr b="0" lang="en-US" sz="3600" spc="-1" strike="noStrike">
                <a:solidFill>
                  <a:srgbClr val="d16349"/>
                </a:solidFill>
                <a:latin typeface="Georgia"/>
              </a:rPr>
              <a:t>Seen in 0.6% to 4% of diabetic pregnancie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6760"/>
            <a:ext cx="8613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UGR or macrosomia: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oms with poorly controlled diabetes and renal, cardiovascular, retinal disease (class F) are more likely to have a premature and/or IUGR bab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acrosomia is due to the direct effects of hyperinsulinemia 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abies are &gt;9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% in weight or &gt;4000g, with excess fat accumulation in abdominal and scapular regions, along with visceromegaly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22:31:36Z</dcterms:created>
  <dc:creator>hcmartinez</dc:creator>
  <dc:description/>
  <dc:language>en-US</dc:language>
  <cp:lastModifiedBy>HCMARTINEZ</cp:lastModifiedBy>
  <dcterms:modified xsi:type="dcterms:W3CDTF">2010-05-08T05:51:40Z</dcterms:modified>
  <cp:revision>43</cp:revision>
  <dc:subject/>
  <dc:title>Infant of a Diabetic Mother</dc:title>
</cp:coreProperties>
</file>